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92000" y="836280"/>
            <a:ext cx="5283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分数乘法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TextBox 3"/>
          <p:cNvSpPr/>
          <p:nvPr/>
        </p:nvSpPr>
        <p:spPr>
          <a:xfrm>
            <a:off x="666720" y="2079720"/>
            <a:ext cx="60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6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分数混合运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Box 3"/>
          <p:cNvSpPr/>
          <p:nvPr/>
        </p:nvSpPr>
        <p:spPr>
          <a:xfrm>
            <a:off x="671400" y="2976480"/>
            <a:ext cx="69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7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利用运算定律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算分数混合运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5" descr="\\192.168.1.3\临时中转站1_以本人姓名建目录\开发中心-多媒体部\02美术部\晨会文件\04宁煌\人教数学教参\01.png"/>
          <p:cNvPicPr/>
          <p:nvPr/>
        </p:nvPicPr>
        <p:blipFill>
          <a:blip r:embed="rId2"/>
          <a:stretch/>
        </p:blipFill>
        <p:spPr>
          <a:xfrm>
            <a:off x="755640" y="9619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072560" y="35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6560" y="4221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四、布置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2"/>
          <p:cNvSpPr/>
          <p:nvPr/>
        </p:nvSpPr>
        <p:spPr>
          <a:xfrm>
            <a:off x="636480" y="2362320"/>
            <a:ext cx="8039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1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业：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二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一、引入情境，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93840" y="4365720"/>
            <a:ext cx="72673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你知道了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一）出示信息，明确问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1187280" y="4979880"/>
            <a:ext cx="81853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5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要求做这个画框需要多长的木条也就是求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求这个长方形的周长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947880" y="2205000"/>
            <a:ext cx="27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教学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出示信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912960" y="2852640"/>
            <a:ext cx="47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个画框的尺寸如右图，做这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画框需要多长的木条？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1197000" y="5587920"/>
            <a:ext cx="81849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可以怎样列式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867280" y="1916280"/>
            <a:ext cx="2706840" cy="162072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5089680" y="2344680"/>
            <a:ext cx="755640" cy="778680"/>
            <a:chOff x="5089680" y="2344680"/>
            <a:chExt cx="755640" cy="778680"/>
          </a:xfrm>
        </p:grpSpPr>
        <p:grpSp>
          <p:nvGrpSpPr>
            <p:cNvPr id="53" name=""/>
            <p:cNvGrpSpPr/>
            <p:nvPr/>
          </p:nvGrpSpPr>
          <p:grpSpPr>
            <a:xfrm>
              <a:off x="5089680" y="2344680"/>
              <a:ext cx="522360" cy="778680"/>
              <a:chOff x="5089680" y="2344680"/>
              <a:chExt cx="522360" cy="778680"/>
            </a:xfrm>
          </p:grpSpPr>
          <p:sp>
            <p:nvSpPr>
              <p:cNvPr id="54" name=""/>
              <p:cNvSpPr/>
              <p:nvPr/>
            </p:nvSpPr>
            <p:spPr>
              <a:xfrm>
                <a:off x="5107320" y="270036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112000" y="23446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089680" y="27637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413680" y="25430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877080" y="3408480"/>
            <a:ext cx="755640" cy="778320"/>
            <a:chOff x="6877080" y="3408480"/>
            <a:chExt cx="755640" cy="778320"/>
          </a:xfrm>
        </p:grpSpPr>
        <p:grpSp>
          <p:nvGrpSpPr>
            <p:cNvPr id="59" name=""/>
            <p:cNvGrpSpPr/>
            <p:nvPr/>
          </p:nvGrpSpPr>
          <p:grpSpPr>
            <a:xfrm>
              <a:off x="6877080" y="3408480"/>
              <a:ext cx="522360" cy="778320"/>
              <a:chOff x="6877080" y="3408480"/>
              <a:chExt cx="522360" cy="778320"/>
            </a:xfrm>
          </p:grpSpPr>
          <p:sp>
            <p:nvSpPr>
              <p:cNvPr id="60" name=""/>
              <p:cNvSpPr/>
              <p:nvPr/>
            </p:nvSpPr>
            <p:spPr>
              <a:xfrm>
                <a:off x="6894720" y="37638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899400" y="34084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877080" y="38271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7201080" y="36064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7072560" y="35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引入情境，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解决问题，提炼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24000" y="4149720"/>
            <a:ext cx="92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数混合运算的顺序和整数的相同，请你计算出上面两道题的结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108080" y="4508640"/>
            <a:ext cx="6624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通过计算你有什么发现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33360" y="5950080"/>
            <a:ext cx="8785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5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结：两种方法的计算结果相同；分数混合运算的顺序与整数混合运算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顺序相同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113520" y="1916280"/>
            <a:ext cx="2706480" cy="162072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5305320" y="2344680"/>
            <a:ext cx="755640" cy="778680"/>
            <a:chOff x="5305320" y="2344680"/>
            <a:chExt cx="755640" cy="778680"/>
          </a:xfrm>
        </p:grpSpPr>
        <p:grpSp>
          <p:nvGrpSpPr>
            <p:cNvPr id="72" name=""/>
            <p:cNvGrpSpPr/>
            <p:nvPr/>
          </p:nvGrpSpPr>
          <p:grpSpPr>
            <a:xfrm>
              <a:off x="5305320" y="2344680"/>
              <a:ext cx="522360" cy="778680"/>
              <a:chOff x="5305320" y="2344680"/>
              <a:chExt cx="522360" cy="778680"/>
            </a:xfrm>
          </p:grpSpPr>
          <p:sp>
            <p:nvSpPr>
              <p:cNvPr id="73" name=""/>
              <p:cNvSpPr/>
              <p:nvPr/>
            </p:nvSpPr>
            <p:spPr>
              <a:xfrm>
                <a:off x="5322960" y="270036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327640" y="23446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305320" y="27637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5629320" y="25430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7093080" y="3408480"/>
            <a:ext cx="755640" cy="778320"/>
            <a:chOff x="7093080" y="3408480"/>
            <a:chExt cx="755640" cy="778320"/>
          </a:xfrm>
        </p:grpSpPr>
        <p:grpSp>
          <p:nvGrpSpPr>
            <p:cNvPr id="78" name=""/>
            <p:cNvGrpSpPr/>
            <p:nvPr/>
          </p:nvGrpSpPr>
          <p:grpSpPr>
            <a:xfrm>
              <a:off x="7093080" y="3408480"/>
              <a:ext cx="522360" cy="778320"/>
              <a:chOff x="7093080" y="3408480"/>
              <a:chExt cx="522360" cy="778320"/>
            </a:xfrm>
          </p:grpSpPr>
          <p:sp>
            <p:nvSpPr>
              <p:cNvPr id="79" name=""/>
              <p:cNvSpPr/>
              <p:nvPr/>
            </p:nvSpPr>
            <p:spPr>
              <a:xfrm>
                <a:off x="7110720" y="37638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115400" y="34084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093080" y="38271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7417080" y="36064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1476360" y="2252520"/>
            <a:ext cx="3187800" cy="788040"/>
            <a:chOff x="1476360" y="2252520"/>
            <a:chExt cx="3187800" cy="788040"/>
          </a:xfrm>
        </p:grpSpPr>
        <p:sp>
          <p:nvSpPr>
            <p:cNvPr id="84" name="Text Box 6"/>
            <p:cNvSpPr/>
            <p:nvPr/>
          </p:nvSpPr>
          <p:spPr>
            <a:xfrm>
              <a:off x="1476360" y="2455560"/>
              <a:ext cx="11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设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2432160" y="2252520"/>
              <a:ext cx="2232000" cy="788040"/>
              <a:chOff x="2432160" y="2252520"/>
              <a:chExt cx="2232000" cy="78804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2783160" y="2252520"/>
                <a:ext cx="521640" cy="778680"/>
                <a:chOff x="2783160" y="2252520"/>
                <a:chExt cx="521640" cy="7786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800440" y="2608200"/>
                  <a:ext cx="504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805120" y="2252520"/>
                  <a:ext cx="3600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783160" y="267156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"/>
              <p:cNvSpPr/>
              <p:nvPr/>
            </p:nvSpPr>
            <p:spPr>
              <a:xfrm>
                <a:off x="2432160" y="2473200"/>
                <a:ext cx="22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（   ＋   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×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" name=""/>
              <p:cNvGrpSpPr/>
              <p:nvPr/>
            </p:nvGrpSpPr>
            <p:grpSpPr>
              <a:xfrm>
                <a:off x="3459240" y="2261880"/>
                <a:ext cx="522360" cy="778680"/>
                <a:chOff x="3459240" y="2261880"/>
                <a:chExt cx="522360" cy="77868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3476880" y="261756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481560" y="226188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459240" y="268092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5" name=""/>
          <p:cNvGrpSpPr/>
          <p:nvPr/>
        </p:nvGrpSpPr>
        <p:grpSpPr>
          <a:xfrm>
            <a:off x="1498680" y="3068640"/>
            <a:ext cx="3649680" cy="788040"/>
            <a:chOff x="1498680" y="3068640"/>
            <a:chExt cx="3649680" cy="788040"/>
          </a:xfrm>
        </p:grpSpPr>
        <p:sp>
          <p:nvSpPr>
            <p:cNvPr id="96" name="Text Box 13"/>
            <p:cNvSpPr/>
            <p:nvPr/>
          </p:nvSpPr>
          <p:spPr>
            <a:xfrm>
              <a:off x="1498680" y="3309840"/>
              <a:ext cx="112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设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2268720" y="3068640"/>
              <a:ext cx="2879640" cy="788040"/>
              <a:chOff x="2268720" y="3068640"/>
              <a:chExt cx="2879640" cy="78804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2619720" y="3068640"/>
                <a:ext cx="521640" cy="778680"/>
                <a:chOff x="2619720" y="3068640"/>
                <a:chExt cx="521640" cy="77868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2637000" y="3424320"/>
                  <a:ext cx="504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2641680" y="3068640"/>
                  <a:ext cx="3600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2619720" y="348768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" name=""/>
              <p:cNvSpPr/>
              <p:nvPr/>
            </p:nvSpPr>
            <p:spPr>
              <a:xfrm>
                <a:off x="2268720" y="3289320"/>
                <a:ext cx="287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×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＋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×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3776760" y="3078000"/>
                <a:ext cx="522360" cy="778680"/>
                <a:chOff x="3776760" y="3078000"/>
                <a:chExt cx="522360" cy="7786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3794400" y="343368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799080" y="307800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776760" y="349704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7" name=""/>
          <p:cNvGrpSpPr/>
          <p:nvPr/>
        </p:nvGrpSpPr>
        <p:grpSpPr>
          <a:xfrm>
            <a:off x="1258920" y="5013360"/>
            <a:ext cx="5035320" cy="802440"/>
            <a:chOff x="1258920" y="5013360"/>
            <a:chExt cx="5035320" cy="802440"/>
          </a:xfrm>
        </p:grpSpPr>
        <p:grpSp>
          <p:nvGrpSpPr>
            <p:cNvPr id="108" name=""/>
            <p:cNvGrpSpPr/>
            <p:nvPr/>
          </p:nvGrpSpPr>
          <p:grpSpPr>
            <a:xfrm>
              <a:off x="1258920" y="5013360"/>
              <a:ext cx="2232000" cy="788040"/>
              <a:chOff x="1258920" y="5013360"/>
              <a:chExt cx="2232000" cy="78804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1609920" y="5013360"/>
                <a:ext cx="521640" cy="778680"/>
                <a:chOff x="1609920" y="5013360"/>
                <a:chExt cx="521640" cy="7786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627200" y="5369040"/>
                  <a:ext cx="504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31880" y="5013360"/>
                  <a:ext cx="3600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609920" y="543240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"/>
              <p:cNvSpPr/>
              <p:nvPr/>
            </p:nvSpPr>
            <p:spPr>
              <a:xfrm>
                <a:off x="1258920" y="5234040"/>
                <a:ext cx="22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（   ＋   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×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2286000" y="5022720"/>
                <a:ext cx="522360" cy="778680"/>
                <a:chOff x="2286000" y="5022720"/>
                <a:chExt cx="522360" cy="7786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303640" y="537840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308320" y="502272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286000" y="544176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3414600" y="5027760"/>
              <a:ext cx="2879640" cy="788040"/>
              <a:chOff x="3414600" y="5027760"/>
              <a:chExt cx="2879640" cy="78804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3765600" y="5027760"/>
                <a:ext cx="521640" cy="778680"/>
                <a:chOff x="3765600" y="5027760"/>
                <a:chExt cx="521640" cy="77868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782880" y="5383440"/>
                  <a:ext cx="504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787560" y="5027760"/>
                  <a:ext cx="3600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765600" y="544680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" name=""/>
              <p:cNvSpPr/>
              <p:nvPr/>
            </p:nvSpPr>
            <p:spPr>
              <a:xfrm>
                <a:off x="3414600" y="5248440"/>
                <a:ext cx="287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×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＋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×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4922640" y="5037120"/>
                <a:ext cx="522360" cy="778680"/>
                <a:chOff x="4922640" y="5037120"/>
                <a:chExt cx="522360" cy="7786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4940280" y="539280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4944960" y="503712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922640" y="545616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" name=""/>
            <p:cNvSpPr/>
            <p:nvPr/>
          </p:nvSpPr>
          <p:spPr>
            <a:xfrm>
              <a:off x="3295800" y="5238720"/>
              <a:ext cx="5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一、引入情境，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二）解决问题，提炼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344600" y="52671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从这些算式中，你发现了什么规律？（左右两边的结果相同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622440" y="576900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结：整数乘法的交换律、结合律和分配律，对于分数乘法也适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611280" y="2133720"/>
            <a:ext cx="818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观察每组的两个算式，看看它们有什么关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709640" y="2530440"/>
            <a:ext cx="5464080" cy="2621160"/>
            <a:chOff x="1709640" y="2530440"/>
            <a:chExt cx="5464080" cy="2621160"/>
          </a:xfrm>
        </p:grpSpPr>
        <p:grpSp>
          <p:nvGrpSpPr>
            <p:cNvPr id="135" name=""/>
            <p:cNvGrpSpPr/>
            <p:nvPr/>
          </p:nvGrpSpPr>
          <p:grpSpPr>
            <a:xfrm>
              <a:off x="1709640" y="2530440"/>
              <a:ext cx="5464080" cy="1743840"/>
              <a:chOff x="1709640" y="2530440"/>
              <a:chExt cx="5464080" cy="174384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2911320" y="2549520"/>
                <a:ext cx="1263600" cy="797760"/>
                <a:chOff x="2911320" y="2549520"/>
                <a:chExt cx="1263600" cy="797760"/>
              </a:xfrm>
            </p:grpSpPr>
            <p:sp>
              <p:nvSpPr>
                <p:cNvPr id="137" name="Text Box 8"/>
                <p:cNvSpPr/>
                <p:nvPr/>
              </p:nvSpPr>
              <p:spPr>
                <a:xfrm>
                  <a:off x="3255840" y="2781360"/>
                  <a:ext cx="338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×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8" name=""/>
                <p:cNvGrpSpPr/>
                <p:nvPr/>
              </p:nvGrpSpPr>
              <p:grpSpPr>
                <a:xfrm>
                  <a:off x="3641400" y="2549520"/>
                  <a:ext cx="533520" cy="778680"/>
                  <a:chOff x="3641400" y="2549520"/>
                  <a:chExt cx="533520" cy="77868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3669840" y="2905200"/>
                    <a:ext cx="50508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3654000" y="2549520"/>
                    <a:ext cx="360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3641400" y="296856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2911320" y="2568600"/>
                  <a:ext cx="523800" cy="778680"/>
                  <a:chOff x="2911320" y="2568600"/>
                  <a:chExt cx="523800" cy="77868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>
                    <a:off x="2930400" y="2924280"/>
                    <a:ext cx="50472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2933640" y="2568600"/>
                    <a:ext cx="360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2911320" y="298764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6" name=""/>
              <p:cNvGrpSpPr/>
              <p:nvPr/>
            </p:nvGrpSpPr>
            <p:grpSpPr>
              <a:xfrm>
                <a:off x="4659120" y="2530440"/>
                <a:ext cx="1263600" cy="797760"/>
                <a:chOff x="4659120" y="2530440"/>
                <a:chExt cx="1263600" cy="797760"/>
              </a:xfrm>
            </p:grpSpPr>
            <p:sp>
              <p:nvSpPr>
                <p:cNvPr id="147" name="Text Box 8"/>
                <p:cNvSpPr/>
                <p:nvPr/>
              </p:nvSpPr>
              <p:spPr>
                <a:xfrm>
                  <a:off x="5003640" y="2762280"/>
                  <a:ext cx="338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×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8" name=""/>
                <p:cNvGrpSpPr/>
                <p:nvPr/>
              </p:nvGrpSpPr>
              <p:grpSpPr>
                <a:xfrm>
                  <a:off x="5389200" y="2530440"/>
                  <a:ext cx="533520" cy="778680"/>
                  <a:chOff x="5389200" y="2530440"/>
                  <a:chExt cx="533520" cy="77868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5417640" y="2886120"/>
                    <a:ext cx="50508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5401800" y="2530440"/>
                    <a:ext cx="360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5389200" y="294948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4659120" y="2549520"/>
                  <a:ext cx="523800" cy="778680"/>
                  <a:chOff x="4659120" y="2549520"/>
                  <a:chExt cx="523800" cy="77868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>
                    <a:off x="4678200" y="2905200"/>
                    <a:ext cx="50472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4681440" y="2549520"/>
                    <a:ext cx="360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4659120" y="296856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6" name=""/>
              <p:cNvSpPr/>
              <p:nvPr/>
            </p:nvSpPr>
            <p:spPr>
              <a:xfrm>
                <a:off x="4111560" y="2751120"/>
                <a:ext cx="431640" cy="4334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1709640" y="3486240"/>
                <a:ext cx="2445840" cy="788040"/>
                <a:chOff x="1709640" y="3486240"/>
                <a:chExt cx="2445840" cy="788040"/>
              </a:xfrm>
            </p:grpSpPr>
            <p:grpSp>
              <p:nvGrpSpPr>
                <p:cNvPr id="158" name=""/>
                <p:cNvGrpSpPr/>
                <p:nvPr/>
              </p:nvGrpSpPr>
              <p:grpSpPr>
                <a:xfrm>
                  <a:off x="2060640" y="3486240"/>
                  <a:ext cx="521640" cy="778680"/>
                  <a:chOff x="2060640" y="3486240"/>
                  <a:chExt cx="521640" cy="77868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>
                    <a:off x="2077920" y="3841920"/>
                    <a:ext cx="504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082600" y="3486240"/>
                    <a:ext cx="36000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2060640" y="3905280"/>
                    <a:ext cx="360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"/>
                <p:cNvSpPr/>
                <p:nvPr/>
              </p:nvSpPr>
              <p:spPr>
                <a:xfrm>
                  <a:off x="1709640" y="3706920"/>
                  <a:ext cx="2232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（ 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×   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）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×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3" name=""/>
                <p:cNvGrpSpPr/>
                <p:nvPr/>
              </p:nvGrpSpPr>
              <p:grpSpPr>
                <a:xfrm>
                  <a:off x="2736720" y="3495600"/>
                  <a:ext cx="522360" cy="778680"/>
                  <a:chOff x="2736720" y="3495600"/>
                  <a:chExt cx="522360" cy="77868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2754360" y="3851280"/>
                    <a:ext cx="50472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2759040" y="3495600"/>
                    <a:ext cx="360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2736720" y="391464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3633840" y="3486240"/>
                  <a:ext cx="521640" cy="778680"/>
                  <a:chOff x="3633840" y="3486240"/>
                  <a:chExt cx="521640" cy="77868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>
                    <a:off x="3651120" y="3841920"/>
                    <a:ext cx="504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3655800" y="3486240"/>
                    <a:ext cx="36000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3633840" y="3905280"/>
                    <a:ext cx="360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1" name=""/>
              <p:cNvGrpSpPr/>
              <p:nvPr/>
            </p:nvGrpSpPr>
            <p:grpSpPr>
              <a:xfrm>
                <a:off x="4581360" y="3486240"/>
                <a:ext cx="2592360" cy="778320"/>
                <a:chOff x="4581360" y="3486240"/>
                <a:chExt cx="2592360" cy="778320"/>
              </a:xfrm>
            </p:grpSpPr>
            <p:grpSp>
              <p:nvGrpSpPr>
                <p:cNvPr id="172" name=""/>
                <p:cNvGrpSpPr/>
                <p:nvPr/>
              </p:nvGrpSpPr>
              <p:grpSpPr>
                <a:xfrm>
                  <a:off x="4643280" y="3486240"/>
                  <a:ext cx="522360" cy="778320"/>
                  <a:chOff x="4643280" y="3486240"/>
                  <a:chExt cx="522360" cy="77832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4660920" y="3841560"/>
                    <a:ext cx="50472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4665600" y="3486240"/>
                    <a:ext cx="360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4643280" y="390492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6" name=""/>
                <p:cNvSpPr/>
                <p:nvPr/>
              </p:nvSpPr>
              <p:spPr>
                <a:xfrm>
                  <a:off x="4581360" y="3706560"/>
                  <a:ext cx="2592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×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（ 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×   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）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7" name=""/>
                <p:cNvGrpSpPr/>
                <p:nvPr/>
              </p:nvGrpSpPr>
              <p:grpSpPr>
                <a:xfrm>
                  <a:off x="5589360" y="3486240"/>
                  <a:ext cx="522360" cy="778320"/>
                  <a:chOff x="5589360" y="3486240"/>
                  <a:chExt cx="522360" cy="77832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5607000" y="3841560"/>
                    <a:ext cx="50472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5611680" y="3486240"/>
                    <a:ext cx="360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5589360" y="390492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6235560" y="3486240"/>
                  <a:ext cx="522360" cy="778320"/>
                  <a:chOff x="6235560" y="3486240"/>
                  <a:chExt cx="522360" cy="77832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6253200" y="3841560"/>
                    <a:ext cx="50472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6257880" y="3486240"/>
                    <a:ext cx="360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6235560" y="390492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85" name=""/>
            <p:cNvSpPr/>
            <p:nvPr/>
          </p:nvSpPr>
          <p:spPr>
            <a:xfrm>
              <a:off x="4118040" y="3691080"/>
              <a:ext cx="4316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1751040" y="4349880"/>
              <a:ext cx="2394000" cy="801720"/>
              <a:chOff x="1751040" y="4349880"/>
              <a:chExt cx="2394000" cy="80172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1751040" y="4349880"/>
                <a:ext cx="2232000" cy="787320"/>
                <a:chOff x="1751040" y="4349880"/>
                <a:chExt cx="2232000" cy="787320"/>
              </a:xfrm>
            </p:grpSpPr>
            <p:grpSp>
              <p:nvGrpSpPr>
                <p:cNvPr id="188" name=""/>
                <p:cNvGrpSpPr/>
                <p:nvPr/>
              </p:nvGrpSpPr>
              <p:grpSpPr>
                <a:xfrm>
                  <a:off x="2102040" y="4349880"/>
                  <a:ext cx="521640" cy="778320"/>
                  <a:chOff x="2102040" y="4349880"/>
                  <a:chExt cx="521640" cy="77832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2119320" y="4705200"/>
                    <a:ext cx="504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2124000" y="4349880"/>
                    <a:ext cx="36000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2102040" y="4768560"/>
                    <a:ext cx="360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2" name=""/>
                <p:cNvSpPr/>
                <p:nvPr/>
              </p:nvSpPr>
              <p:spPr>
                <a:xfrm>
                  <a:off x="1751040" y="4570200"/>
                  <a:ext cx="2232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（   ＋   ）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×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3" name=""/>
                <p:cNvGrpSpPr/>
                <p:nvPr/>
              </p:nvGrpSpPr>
              <p:grpSpPr>
                <a:xfrm>
                  <a:off x="2778120" y="4358880"/>
                  <a:ext cx="522360" cy="778320"/>
                  <a:chOff x="2778120" y="4358880"/>
                  <a:chExt cx="522360" cy="77832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2795760" y="4714200"/>
                    <a:ext cx="50472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2800440" y="4358880"/>
                    <a:ext cx="360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778120" y="477756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7" name=""/>
              <p:cNvGrpSpPr/>
              <p:nvPr/>
            </p:nvGrpSpPr>
            <p:grpSpPr>
              <a:xfrm>
                <a:off x="3622680" y="4373280"/>
                <a:ext cx="522360" cy="778320"/>
                <a:chOff x="3622680" y="4373280"/>
                <a:chExt cx="522360" cy="77832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3640320" y="472860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645000" y="437328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622680" y="479196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294080" y="4340160"/>
              <a:ext cx="2879640" cy="783360"/>
              <a:chOff x="4294080" y="4340160"/>
              <a:chExt cx="2879640" cy="78336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645080" y="4344840"/>
                <a:ext cx="521640" cy="778680"/>
                <a:chOff x="4645080" y="4344840"/>
                <a:chExt cx="521640" cy="7786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4662360" y="4700520"/>
                  <a:ext cx="504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667040" y="4344840"/>
                  <a:ext cx="3600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645080" y="476388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" name=""/>
              <p:cNvSpPr/>
              <p:nvPr/>
            </p:nvSpPr>
            <p:spPr>
              <a:xfrm>
                <a:off x="4294080" y="4565520"/>
                <a:ext cx="287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×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＋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5897520" y="4344840"/>
                <a:ext cx="522360" cy="778680"/>
                <a:chOff x="5897520" y="4344840"/>
                <a:chExt cx="522360" cy="7786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5915160" y="470052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919840" y="434484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897520" y="476388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5267160" y="4340160"/>
                <a:ext cx="522360" cy="778680"/>
                <a:chOff x="5267160" y="4340160"/>
                <a:chExt cx="522360" cy="77868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5284800" y="469584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289480" y="434016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267160" y="475920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6588000" y="4344840"/>
                <a:ext cx="522360" cy="778680"/>
                <a:chOff x="6588000" y="4344840"/>
                <a:chExt cx="522360" cy="7786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605640" y="470052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610320" y="434484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588000" y="476388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9" name=""/>
            <p:cNvSpPr/>
            <p:nvPr/>
          </p:nvSpPr>
          <p:spPr>
            <a:xfrm>
              <a:off x="4118040" y="4575240"/>
              <a:ext cx="4316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7072560" y="35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运用定律 简便计算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758880" y="5637240"/>
            <a:ext cx="80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研讨问题：你运用了什么运算定律？（乘法交换律和乘法结合律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027080" y="1689120"/>
            <a:ext cx="7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760320" y="41497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研讨问题：你是怎样想的？（先做小括号里的，再做括号外的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755640" y="2470320"/>
            <a:ext cx="70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请你先独立计算上面两道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211640" y="1450800"/>
            <a:ext cx="2573280" cy="788040"/>
            <a:chOff x="4211640" y="1450800"/>
            <a:chExt cx="2573280" cy="788040"/>
          </a:xfrm>
        </p:grpSpPr>
        <p:grpSp>
          <p:nvGrpSpPr>
            <p:cNvPr id="227" name=""/>
            <p:cNvGrpSpPr/>
            <p:nvPr/>
          </p:nvGrpSpPr>
          <p:grpSpPr>
            <a:xfrm>
              <a:off x="4562640" y="1450800"/>
              <a:ext cx="521640" cy="778680"/>
              <a:chOff x="4562640" y="1450800"/>
              <a:chExt cx="521640" cy="778680"/>
            </a:xfrm>
          </p:grpSpPr>
          <p:sp>
            <p:nvSpPr>
              <p:cNvPr id="228" name=""/>
              <p:cNvSpPr/>
              <p:nvPr/>
            </p:nvSpPr>
            <p:spPr>
              <a:xfrm>
                <a:off x="4579920" y="180648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584600" y="1450800"/>
                <a:ext cx="360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562640" y="186984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4211640" y="1671480"/>
              <a:ext cx="257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   ＋   ）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5238720" y="1460160"/>
              <a:ext cx="522360" cy="778680"/>
              <a:chOff x="5238720" y="1460160"/>
              <a:chExt cx="522360" cy="778680"/>
            </a:xfrm>
          </p:grpSpPr>
          <p:sp>
            <p:nvSpPr>
              <p:cNvPr id="233" name=""/>
              <p:cNvSpPr/>
              <p:nvPr/>
            </p:nvSpPr>
            <p:spPr>
              <a:xfrm>
                <a:off x="5256360" y="181584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61040" y="14601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238720" y="18792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"/>
          <p:cNvGrpSpPr/>
          <p:nvPr/>
        </p:nvGrpSpPr>
        <p:grpSpPr>
          <a:xfrm>
            <a:off x="1562040" y="1474920"/>
            <a:ext cx="3457440" cy="778320"/>
            <a:chOff x="1562040" y="1474920"/>
            <a:chExt cx="3457440" cy="778320"/>
          </a:xfrm>
        </p:grpSpPr>
        <p:grpSp>
          <p:nvGrpSpPr>
            <p:cNvPr id="237" name=""/>
            <p:cNvGrpSpPr/>
            <p:nvPr/>
          </p:nvGrpSpPr>
          <p:grpSpPr>
            <a:xfrm>
              <a:off x="1913040" y="1474920"/>
              <a:ext cx="521640" cy="778320"/>
              <a:chOff x="1913040" y="1474920"/>
              <a:chExt cx="521640" cy="778320"/>
            </a:xfrm>
          </p:grpSpPr>
          <p:sp>
            <p:nvSpPr>
              <p:cNvPr id="238" name=""/>
              <p:cNvSpPr/>
              <p:nvPr/>
            </p:nvSpPr>
            <p:spPr>
              <a:xfrm>
                <a:off x="1930320" y="183024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35000" y="1474920"/>
                <a:ext cx="360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913040" y="189360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1562040" y="1695240"/>
              <a:ext cx="34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2816280" y="1474920"/>
              <a:ext cx="521640" cy="778320"/>
              <a:chOff x="2816280" y="1474920"/>
              <a:chExt cx="521640" cy="778320"/>
            </a:xfrm>
          </p:grpSpPr>
          <p:sp>
            <p:nvSpPr>
              <p:cNvPr id="243" name=""/>
              <p:cNvSpPr/>
              <p:nvPr/>
            </p:nvSpPr>
            <p:spPr>
              <a:xfrm>
                <a:off x="2833560" y="183024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838240" y="1474920"/>
                <a:ext cx="360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816280" y="189360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6" name=""/>
          <p:cNvGrpSpPr/>
          <p:nvPr/>
        </p:nvGrpSpPr>
        <p:grpSpPr>
          <a:xfrm>
            <a:off x="771480" y="2828880"/>
            <a:ext cx="5211360" cy="1227240"/>
            <a:chOff x="771480" y="2828880"/>
            <a:chExt cx="5211360" cy="1227240"/>
          </a:xfrm>
        </p:grpSpPr>
        <p:sp>
          <p:nvSpPr>
            <p:cNvPr id="247" name="Text Box 9"/>
            <p:cNvSpPr/>
            <p:nvPr/>
          </p:nvSpPr>
          <p:spPr>
            <a:xfrm>
              <a:off x="771480" y="3213000"/>
              <a:ext cx="12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设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1428840" y="2828880"/>
              <a:ext cx="4554000" cy="1227240"/>
              <a:chOff x="1428840" y="2828880"/>
              <a:chExt cx="4554000" cy="122724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1428840" y="3021120"/>
                <a:ext cx="4554000" cy="797040"/>
                <a:chOff x="1428840" y="3021120"/>
                <a:chExt cx="4554000" cy="797040"/>
              </a:xfrm>
            </p:grpSpPr>
            <p:grpSp>
              <p:nvGrpSpPr>
                <p:cNvPr id="250" name=""/>
                <p:cNvGrpSpPr/>
                <p:nvPr/>
              </p:nvGrpSpPr>
              <p:grpSpPr>
                <a:xfrm>
                  <a:off x="1428840" y="3021120"/>
                  <a:ext cx="3808440" cy="797040"/>
                  <a:chOff x="1428840" y="3021120"/>
                  <a:chExt cx="3808440" cy="797040"/>
                </a:xfrm>
              </p:grpSpPr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1428840" y="3027240"/>
                    <a:ext cx="3457440" cy="778320"/>
                    <a:chOff x="1428840" y="3027240"/>
                    <a:chExt cx="3457440" cy="778320"/>
                  </a:xfrm>
                </p:grpSpPr>
                <p:grpSp>
                  <p:nvGrpSpPr>
                    <p:cNvPr id="252" name=""/>
                    <p:cNvGrpSpPr/>
                    <p:nvPr/>
                  </p:nvGrpSpPr>
                  <p:grpSpPr>
                    <a:xfrm>
                      <a:off x="1779840" y="3027240"/>
                      <a:ext cx="521640" cy="778320"/>
                      <a:chOff x="1779840" y="3027240"/>
                      <a:chExt cx="521640" cy="778320"/>
                    </a:xfrm>
                  </p:grpSpPr>
                  <p:sp>
                    <p:nvSpPr>
                      <p:cNvPr id="253" name=""/>
                      <p:cNvSpPr/>
                      <p:nvPr/>
                    </p:nvSpPr>
                    <p:spPr>
                      <a:xfrm>
                        <a:off x="1797120" y="3382560"/>
                        <a:ext cx="504360" cy="4230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5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4" name=""/>
                      <p:cNvSpPr/>
                      <p:nvPr/>
                    </p:nvSpPr>
                    <p:spPr>
                      <a:xfrm>
                        <a:off x="1801800" y="3027240"/>
                        <a:ext cx="360000" cy="4230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>
                        <a:off x="1779840" y="3445560"/>
                        <a:ext cx="36000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1428840" y="3247560"/>
                      <a:ext cx="34574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×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×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57" name=""/>
                    <p:cNvGrpSpPr/>
                    <p:nvPr/>
                  </p:nvGrpSpPr>
                  <p:grpSpPr>
                    <a:xfrm>
                      <a:off x="2683080" y="3027240"/>
                      <a:ext cx="521640" cy="778320"/>
                      <a:chOff x="2683080" y="3027240"/>
                      <a:chExt cx="521640" cy="778320"/>
                    </a:xfrm>
                  </p:grpSpPr>
                  <p:sp>
                    <p:nvSpPr>
                      <p:cNvPr id="258" name=""/>
                      <p:cNvSpPr/>
                      <p:nvPr/>
                    </p:nvSpPr>
                    <p:spPr>
                      <a:xfrm>
                        <a:off x="2700360" y="3382560"/>
                        <a:ext cx="504360" cy="4230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6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2705040" y="3027240"/>
                        <a:ext cx="360000" cy="4230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1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2683080" y="3445560"/>
                        <a:ext cx="36000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61" name=""/>
                  <p:cNvGrpSpPr/>
                  <p:nvPr/>
                </p:nvGrpSpPr>
                <p:grpSpPr>
                  <a:xfrm>
                    <a:off x="3973680" y="3021120"/>
                    <a:ext cx="1263600" cy="797040"/>
                    <a:chOff x="3973680" y="3021120"/>
                    <a:chExt cx="1263600" cy="797040"/>
                  </a:xfrm>
                </p:grpSpPr>
                <p:sp>
                  <p:nvSpPr>
                    <p:cNvPr id="262" name="Text Box 8"/>
                    <p:cNvSpPr/>
                    <p:nvPr/>
                  </p:nvSpPr>
                  <p:spPr>
                    <a:xfrm>
                      <a:off x="4318200" y="3252600"/>
                      <a:ext cx="33804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63" name=""/>
                    <p:cNvGrpSpPr/>
                    <p:nvPr/>
                  </p:nvGrpSpPr>
                  <p:grpSpPr>
                    <a:xfrm>
                      <a:off x="4703760" y="3021120"/>
                      <a:ext cx="533520" cy="778320"/>
                      <a:chOff x="4703760" y="3021120"/>
                      <a:chExt cx="533520" cy="778320"/>
                    </a:xfrm>
                  </p:grpSpPr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4732200" y="3376440"/>
                        <a:ext cx="505080" cy="4230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6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5" name=""/>
                      <p:cNvSpPr/>
                      <p:nvPr/>
                    </p:nvSpPr>
                    <p:spPr>
                      <a:xfrm>
                        <a:off x="4716360" y="3021120"/>
                        <a:ext cx="360360" cy="4230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5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6" name=""/>
                      <p:cNvSpPr/>
                      <p:nvPr/>
                    </p:nvSpPr>
                    <p:spPr>
                      <a:xfrm>
                        <a:off x="4703760" y="3439800"/>
                        <a:ext cx="36036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7" name=""/>
                    <p:cNvGrpSpPr/>
                    <p:nvPr/>
                  </p:nvGrpSpPr>
                  <p:grpSpPr>
                    <a:xfrm>
                      <a:off x="3973680" y="3039840"/>
                      <a:ext cx="523800" cy="778320"/>
                      <a:chOff x="3973680" y="3039840"/>
                      <a:chExt cx="523800" cy="778320"/>
                    </a:xfrm>
                  </p:grpSpPr>
                  <p:sp>
                    <p:nvSpPr>
                      <p:cNvPr id="268" name=""/>
                      <p:cNvSpPr/>
                      <p:nvPr/>
                    </p:nvSpPr>
                    <p:spPr>
                      <a:xfrm>
                        <a:off x="3992760" y="3395160"/>
                        <a:ext cx="504720" cy="4230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5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" name=""/>
                      <p:cNvSpPr/>
                      <p:nvPr/>
                    </p:nvSpPr>
                    <p:spPr>
                      <a:xfrm>
                        <a:off x="3996000" y="3039840"/>
                        <a:ext cx="360360" cy="4230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" name=""/>
                      <p:cNvSpPr/>
                      <p:nvPr/>
                    </p:nvSpPr>
                    <p:spPr>
                      <a:xfrm>
                        <a:off x="3973680" y="3458520"/>
                        <a:ext cx="36036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71" name=""/>
                <p:cNvSpPr/>
                <p:nvPr/>
              </p:nvSpPr>
              <p:spPr>
                <a:xfrm>
                  <a:off x="5025960" y="3236760"/>
                  <a:ext cx="505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2" name=""/>
                <p:cNvGrpSpPr/>
                <p:nvPr/>
              </p:nvGrpSpPr>
              <p:grpSpPr>
                <a:xfrm>
                  <a:off x="5461200" y="3021120"/>
                  <a:ext cx="521640" cy="778320"/>
                  <a:chOff x="5461200" y="3021120"/>
                  <a:chExt cx="521640" cy="77832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>
                    <a:off x="5478480" y="3376440"/>
                    <a:ext cx="504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5483160" y="3021120"/>
                    <a:ext cx="36000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5461200" y="3439800"/>
                    <a:ext cx="360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6" name=""/>
              <p:cNvSpPr/>
              <p:nvPr/>
            </p:nvSpPr>
            <p:spPr>
              <a:xfrm>
                <a:off x="4057920" y="3213000"/>
                <a:ext cx="217440" cy="14436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48200" y="3578040"/>
                <a:ext cx="217440" cy="14472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773600" y="3213000"/>
                <a:ext cx="217440" cy="14436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795920" y="3557520"/>
                <a:ext cx="217440" cy="14436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986280" y="284328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700520" y="282888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996000" y="368784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749840" y="367344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4" name=""/>
          <p:cNvGrpSpPr/>
          <p:nvPr/>
        </p:nvGrpSpPr>
        <p:grpSpPr>
          <a:xfrm>
            <a:off x="744480" y="4675320"/>
            <a:ext cx="7232760" cy="1012320"/>
            <a:chOff x="744480" y="4675320"/>
            <a:chExt cx="7232760" cy="1012320"/>
          </a:xfrm>
        </p:grpSpPr>
        <p:sp>
          <p:nvSpPr>
            <p:cNvPr id="285" name="Text Box 9"/>
            <p:cNvSpPr/>
            <p:nvPr/>
          </p:nvSpPr>
          <p:spPr>
            <a:xfrm>
              <a:off x="744480" y="4892400"/>
              <a:ext cx="12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设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01840" y="4675320"/>
              <a:ext cx="6575400" cy="1012320"/>
              <a:chOff x="1401840" y="4675320"/>
              <a:chExt cx="6575400" cy="1012320"/>
            </a:xfrm>
          </p:grpSpPr>
          <p:grpSp>
            <p:nvGrpSpPr>
              <p:cNvPr id="287" name=""/>
              <p:cNvGrpSpPr/>
              <p:nvPr/>
            </p:nvGrpSpPr>
            <p:grpSpPr>
              <a:xfrm>
                <a:off x="3767040" y="4690800"/>
                <a:ext cx="3457440" cy="790560"/>
                <a:chOff x="3767040" y="4690800"/>
                <a:chExt cx="3457440" cy="79056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3767040" y="4923720"/>
                  <a:ext cx="3457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（ 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×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）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×    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9" name=""/>
                <p:cNvGrpSpPr/>
                <p:nvPr/>
              </p:nvGrpSpPr>
              <p:grpSpPr>
                <a:xfrm>
                  <a:off x="4118040" y="4703040"/>
                  <a:ext cx="521640" cy="778320"/>
                  <a:chOff x="4118040" y="4703040"/>
                  <a:chExt cx="521640" cy="77832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>
                    <a:off x="4135320" y="5058360"/>
                    <a:ext cx="504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4140000" y="4703040"/>
                    <a:ext cx="36000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4118040" y="5121720"/>
                    <a:ext cx="360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5457600" y="4690800"/>
                  <a:ext cx="522360" cy="778320"/>
                  <a:chOff x="5457600" y="4690800"/>
                  <a:chExt cx="522360" cy="77832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>
                    <a:off x="5475240" y="5046120"/>
                    <a:ext cx="50472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6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5479920" y="4690800"/>
                    <a:ext cx="360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457600" y="510948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7" name=""/>
              <p:cNvSpPr/>
              <p:nvPr/>
            </p:nvSpPr>
            <p:spPr>
              <a:xfrm>
                <a:off x="7067520" y="4890960"/>
                <a:ext cx="50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8" name=""/>
              <p:cNvGrpSpPr/>
              <p:nvPr/>
            </p:nvGrpSpPr>
            <p:grpSpPr>
              <a:xfrm>
                <a:off x="1401840" y="4675320"/>
                <a:ext cx="6575400" cy="1012320"/>
                <a:chOff x="1401840" y="4675320"/>
                <a:chExt cx="6575400" cy="1012320"/>
              </a:xfrm>
            </p:grpSpPr>
            <p:grpSp>
              <p:nvGrpSpPr>
                <p:cNvPr id="299" name=""/>
                <p:cNvGrpSpPr/>
                <p:nvPr/>
              </p:nvGrpSpPr>
              <p:grpSpPr>
                <a:xfrm>
                  <a:off x="1401840" y="4706640"/>
                  <a:ext cx="3457440" cy="778320"/>
                  <a:chOff x="1401840" y="4706640"/>
                  <a:chExt cx="3457440" cy="778320"/>
                </a:xfrm>
              </p:grpSpPr>
              <p:grpSp>
                <p:nvGrpSpPr>
                  <p:cNvPr id="300" name=""/>
                  <p:cNvGrpSpPr/>
                  <p:nvPr/>
                </p:nvGrpSpPr>
                <p:grpSpPr>
                  <a:xfrm>
                    <a:off x="1752840" y="4706640"/>
                    <a:ext cx="521640" cy="778320"/>
                    <a:chOff x="1752840" y="4706640"/>
                    <a:chExt cx="521640" cy="778320"/>
                  </a:xfrm>
                </p:grpSpPr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1770120" y="5061960"/>
                      <a:ext cx="50436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1774800" y="4706640"/>
                      <a:ext cx="36000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>
                      <a:off x="1752840" y="5125320"/>
                      <a:ext cx="3600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4" name=""/>
                  <p:cNvSpPr/>
                  <p:nvPr/>
                </p:nvSpPr>
                <p:spPr>
                  <a:xfrm>
                    <a:off x="1401840" y="4926960"/>
                    <a:ext cx="3457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   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×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（  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×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）＝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5" name=""/>
                  <p:cNvGrpSpPr/>
                  <p:nvPr/>
                </p:nvGrpSpPr>
                <p:grpSpPr>
                  <a:xfrm>
                    <a:off x="2656080" y="4706640"/>
                    <a:ext cx="521640" cy="778320"/>
                    <a:chOff x="2656080" y="4706640"/>
                    <a:chExt cx="521640" cy="778320"/>
                  </a:xfrm>
                </p:grpSpPr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2673360" y="5061960"/>
                      <a:ext cx="50436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2678040" y="4706640"/>
                      <a:ext cx="36000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2656080" y="5125320"/>
                      <a:ext cx="3600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7454880" y="4675320"/>
                  <a:ext cx="522360" cy="778320"/>
                  <a:chOff x="7454880" y="4675320"/>
                  <a:chExt cx="522360" cy="7783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7472520" y="5030640"/>
                    <a:ext cx="50472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7477200" y="4675320"/>
                    <a:ext cx="360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7454880" y="509400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3" name=""/>
                <p:cNvSpPr/>
                <p:nvPr/>
              </p:nvSpPr>
              <p:spPr>
                <a:xfrm>
                  <a:off x="4734000" y="5065560"/>
                  <a:ext cx="217440" cy="14400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191120" y="5229000"/>
                  <a:ext cx="217440" cy="14400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4651560" y="468144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4138560" y="531936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7" name=""/>
                <p:cNvGrpSpPr/>
                <p:nvPr/>
              </p:nvGrpSpPr>
              <p:grpSpPr>
                <a:xfrm>
                  <a:off x="6174000" y="4686120"/>
                  <a:ext cx="1094400" cy="778320"/>
                  <a:chOff x="6174000" y="4686120"/>
                  <a:chExt cx="1094400" cy="778320"/>
                </a:xfrm>
              </p:grpSpPr>
              <p:sp>
                <p:nvSpPr>
                  <p:cNvPr id="318" name="Text Box 8"/>
                  <p:cNvSpPr/>
                  <p:nvPr/>
                </p:nvSpPr>
                <p:spPr>
                  <a:xfrm>
                    <a:off x="6365880" y="4906440"/>
                    <a:ext cx="3376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楷体_GB2312"/>
                        <a:ea typeface="楷体_GB2312"/>
                      </a:rPr>
                      <a:t>×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6174000" y="4686120"/>
                    <a:ext cx="1094400" cy="778320"/>
                    <a:chOff x="6174000" y="4686120"/>
                    <a:chExt cx="1094400" cy="778320"/>
                  </a:xfrm>
                </p:grpSpPr>
                <p:grpSp>
                  <p:nvGrpSpPr>
                    <p:cNvPr id="320" name=""/>
                    <p:cNvGrpSpPr/>
                    <p:nvPr/>
                  </p:nvGrpSpPr>
                  <p:grpSpPr>
                    <a:xfrm>
                      <a:off x="6735600" y="4686120"/>
                      <a:ext cx="532800" cy="778320"/>
                      <a:chOff x="6735600" y="4686120"/>
                      <a:chExt cx="532800" cy="778320"/>
                    </a:xfrm>
                  </p:grpSpPr>
                  <p:sp>
                    <p:nvSpPr>
                      <p:cNvPr id="321" name=""/>
                      <p:cNvSpPr/>
                      <p:nvPr/>
                    </p:nvSpPr>
                    <p:spPr>
                      <a:xfrm>
                        <a:off x="6763680" y="5041440"/>
                        <a:ext cx="504720" cy="4230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6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2" name=""/>
                      <p:cNvSpPr/>
                      <p:nvPr/>
                    </p:nvSpPr>
                    <p:spPr>
                      <a:xfrm>
                        <a:off x="6747840" y="4686120"/>
                        <a:ext cx="360000" cy="4230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1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3" name=""/>
                      <p:cNvSpPr/>
                      <p:nvPr/>
                    </p:nvSpPr>
                    <p:spPr>
                      <a:xfrm>
                        <a:off x="6735600" y="5104800"/>
                        <a:ext cx="36000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24" name=""/>
                    <p:cNvSpPr/>
                    <p:nvPr/>
                  </p:nvSpPr>
                  <p:spPr>
                    <a:xfrm>
                      <a:off x="6174000" y="4928760"/>
                      <a:ext cx="5029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25" name=""/>
                <p:cNvGrpSpPr/>
                <p:nvPr/>
              </p:nvGrpSpPr>
              <p:grpSpPr>
                <a:xfrm>
                  <a:off x="6149880" y="4681440"/>
                  <a:ext cx="993600" cy="996120"/>
                  <a:chOff x="6149880" y="4681440"/>
                  <a:chExt cx="993600" cy="99612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6251400" y="5055840"/>
                    <a:ext cx="217440" cy="144000"/>
                  </a:xfrm>
                  <a:prstGeom prst="line">
                    <a:avLst/>
                  </a:prstGeom>
                  <a:ln w="19080">
                    <a:solidFill>
                      <a:srgbClr val="66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6149880" y="4681440"/>
                    <a:ext cx="360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6783120" y="5309280"/>
                    <a:ext cx="360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6819840" y="5228280"/>
                    <a:ext cx="217440" cy="144360"/>
                  </a:xfrm>
                  <a:prstGeom prst="line">
                    <a:avLst/>
                  </a:prstGeom>
                  <a:ln w="19080">
                    <a:solidFill>
                      <a:srgbClr val="66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运用定律 简便计算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550800" y="5091120"/>
            <a:ext cx="6551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观察以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种方法，你喜欢哪种方法？说说你的想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7"/>
          <p:cNvSpPr/>
          <p:nvPr/>
        </p:nvSpPr>
        <p:spPr>
          <a:xfrm>
            <a:off x="546120" y="4292640"/>
            <a:ext cx="942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研讨问题：你是怎样想的？（同级运算去掉括号，一次约分计算简便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562040" y="1474920"/>
            <a:ext cx="3457440" cy="778320"/>
            <a:chOff x="1562040" y="1474920"/>
            <a:chExt cx="3457440" cy="778320"/>
          </a:xfrm>
        </p:grpSpPr>
        <p:grpSp>
          <p:nvGrpSpPr>
            <p:cNvPr id="334" name=""/>
            <p:cNvGrpSpPr/>
            <p:nvPr/>
          </p:nvGrpSpPr>
          <p:grpSpPr>
            <a:xfrm>
              <a:off x="1913040" y="1474920"/>
              <a:ext cx="521640" cy="778320"/>
              <a:chOff x="1913040" y="1474920"/>
              <a:chExt cx="521640" cy="778320"/>
            </a:xfrm>
          </p:grpSpPr>
          <p:sp>
            <p:nvSpPr>
              <p:cNvPr id="335" name=""/>
              <p:cNvSpPr/>
              <p:nvPr/>
            </p:nvSpPr>
            <p:spPr>
              <a:xfrm>
                <a:off x="1930320" y="183024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935000" y="1474920"/>
                <a:ext cx="360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13040" y="189360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1562040" y="1695240"/>
              <a:ext cx="34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2816280" y="1474920"/>
              <a:ext cx="521640" cy="778320"/>
              <a:chOff x="2816280" y="1474920"/>
              <a:chExt cx="521640" cy="778320"/>
            </a:xfrm>
          </p:grpSpPr>
          <p:sp>
            <p:nvSpPr>
              <p:cNvPr id="340" name=""/>
              <p:cNvSpPr/>
              <p:nvPr/>
            </p:nvSpPr>
            <p:spPr>
              <a:xfrm>
                <a:off x="2833560" y="183024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838240" y="1474920"/>
                <a:ext cx="360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816280" y="189360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3" name=""/>
          <p:cNvGrpSpPr/>
          <p:nvPr/>
        </p:nvGrpSpPr>
        <p:grpSpPr>
          <a:xfrm>
            <a:off x="552600" y="2565360"/>
            <a:ext cx="6379560" cy="1225440"/>
            <a:chOff x="552600" y="2565360"/>
            <a:chExt cx="6379560" cy="1225440"/>
          </a:xfrm>
        </p:grpSpPr>
        <p:sp>
          <p:nvSpPr>
            <p:cNvPr id="344" name="Text Box 9"/>
            <p:cNvSpPr/>
            <p:nvPr/>
          </p:nvSpPr>
          <p:spPr>
            <a:xfrm>
              <a:off x="552600" y="2979720"/>
              <a:ext cx="122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设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214600" y="2997000"/>
              <a:ext cx="51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1209600" y="2793960"/>
              <a:ext cx="3457080" cy="778680"/>
              <a:chOff x="1209600" y="2793960"/>
              <a:chExt cx="3457080" cy="778680"/>
            </a:xfrm>
          </p:grpSpPr>
          <p:grpSp>
            <p:nvGrpSpPr>
              <p:cNvPr id="347" name=""/>
              <p:cNvGrpSpPr/>
              <p:nvPr/>
            </p:nvGrpSpPr>
            <p:grpSpPr>
              <a:xfrm>
                <a:off x="1560240" y="2793960"/>
                <a:ext cx="521280" cy="778680"/>
                <a:chOff x="1560240" y="2793960"/>
                <a:chExt cx="521280" cy="77868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1577520" y="3149640"/>
                  <a:ext cx="5040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582200" y="2793960"/>
                  <a:ext cx="35964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560240" y="3213000"/>
                  <a:ext cx="359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>
                <a:off x="1209600" y="3014640"/>
                <a:ext cx="345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×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（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×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）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2" name=""/>
              <p:cNvGrpSpPr/>
              <p:nvPr/>
            </p:nvGrpSpPr>
            <p:grpSpPr>
              <a:xfrm>
                <a:off x="2463480" y="2793960"/>
                <a:ext cx="521280" cy="778680"/>
                <a:chOff x="2463480" y="2793960"/>
                <a:chExt cx="521280" cy="77868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2480760" y="3149640"/>
                  <a:ext cx="5040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485440" y="2793960"/>
                  <a:ext cx="35964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463480" y="3213000"/>
                  <a:ext cx="359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6" name=""/>
            <p:cNvGrpSpPr/>
            <p:nvPr/>
          </p:nvGrpSpPr>
          <p:grpSpPr>
            <a:xfrm>
              <a:off x="5601960" y="2781360"/>
              <a:ext cx="534240" cy="778680"/>
              <a:chOff x="5601960" y="2781360"/>
              <a:chExt cx="534240" cy="778680"/>
            </a:xfrm>
          </p:grpSpPr>
          <p:sp>
            <p:nvSpPr>
              <p:cNvPr id="357" name=""/>
              <p:cNvSpPr/>
              <p:nvPr/>
            </p:nvSpPr>
            <p:spPr>
              <a:xfrm>
                <a:off x="5619960" y="3137040"/>
                <a:ext cx="5162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624640" y="2781360"/>
                <a:ext cx="3686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601960" y="3200400"/>
                <a:ext cx="368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3474720" y="2565360"/>
              <a:ext cx="3457440" cy="1225440"/>
              <a:chOff x="3474720" y="2565360"/>
              <a:chExt cx="3457440" cy="122544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3474720" y="2565360"/>
                <a:ext cx="3457440" cy="1225440"/>
                <a:chOff x="3474720" y="2565360"/>
                <a:chExt cx="3457440" cy="122544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3474720" y="3011400"/>
                  <a:ext cx="3457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   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× 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×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3" name=""/>
                <p:cNvGrpSpPr/>
                <p:nvPr/>
              </p:nvGrpSpPr>
              <p:grpSpPr>
                <a:xfrm>
                  <a:off x="4511520" y="2790720"/>
                  <a:ext cx="521640" cy="778680"/>
                  <a:chOff x="4511520" y="2790720"/>
                  <a:chExt cx="521640" cy="77868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>
                    <a:off x="4528800" y="3146400"/>
                    <a:ext cx="504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6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4533480" y="2790720"/>
                    <a:ext cx="36000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4511520" y="3209760"/>
                    <a:ext cx="360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7" name=""/>
                <p:cNvSpPr/>
                <p:nvPr/>
              </p:nvSpPr>
              <p:spPr>
                <a:xfrm>
                  <a:off x="3863520" y="2905200"/>
                  <a:ext cx="289080" cy="21564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3863520" y="3265560"/>
                  <a:ext cx="289080" cy="21564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5035320" y="3083040"/>
                  <a:ext cx="288720" cy="21564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4574880" y="3308400"/>
                  <a:ext cx="289080" cy="21564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3830400" y="256536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3831840" y="340992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546440" y="342252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5009760" y="277488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3825720" y="2790720"/>
                <a:ext cx="521640" cy="778680"/>
                <a:chOff x="3825720" y="2790720"/>
                <a:chExt cx="521640" cy="77868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843000" y="3146400"/>
                  <a:ext cx="504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847680" y="2790720"/>
                  <a:ext cx="3600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3825720" y="320976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运用定律 简便计算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547560" y="4459320"/>
            <a:ext cx="8352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研讨问题：你运用了什么运算定律？（运用乘法分配律，计算简便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539640" y="5661000"/>
            <a:ext cx="7920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结：整数乘法的交换律、结合律和分配律，对于分数乘法也适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应用乘法的运算定律，可以使一些计算简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560520" y="3108240"/>
            <a:ext cx="77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研讨问题：你是怎样想的？（先做小括号里的，再做括号外的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539640" y="5013360"/>
            <a:ext cx="6696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观察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种计算方法，你喜欢哪种方法？说说你的想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563840" y="1468440"/>
            <a:ext cx="2573280" cy="788040"/>
            <a:chOff x="1563840" y="1468440"/>
            <a:chExt cx="2573280" cy="788040"/>
          </a:xfrm>
        </p:grpSpPr>
        <p:grpSp>
          <p:nvGrpSpPr>
            <p:cNvPr id="385" name=""/>
            <p:cNvGrpSpPr/>
            <p:nvPr/>
          </p:nvGrpSpPr>
          <p:grpSpPr>
            <a:xfrm>
              <a:off x="1914840" y="1468440"/>
              <a:ext cx="521640" cy="778680"/>
              <a:chOff x="1914840" y="1468440"/>
              <a:chExt cx="521640" cy="778680"/>
            </a:xfrm>
          </p:grpSpPr>
          <p:sp>
            <p:nvSpPr>
              <p:cNvPr id="386" name=""/>
              <p:cNvSpPr/>
              <p:nvPr/>
            </p:nvSpPr>
            <p:spPr>
              <a:xfrm>
                <a:off x="1932120" y="182412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936800" y="1468440"/>
                <a:ext cx="360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914840" y="188748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1563840" y="1689120"/>
              <a:ext cx="257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   ＋   ）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2590920" y="1477800"/>
              <a:ext cx="522360" cy="778680"/>
              <a:chOff x="2590920" y="1477800"/>
              <a:chExt cx="522360" cy="778680"/>
            </a:xfrm>
          </p:grpSpPr>
          <p:sp>
            <p:nvSpPr>
              <p:cNvPr id="391" name=""/>
              <p:cNvSpPr/>
              <p:nvPr/>
            </p:nvSpPr>
            <p:spPr>
              <a:xfrm>
                <a:off x="2608560" y="183348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613240" y="14778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90920" y="18968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4" name=""/>
          <p:cNvGrpSpPr/>
          <p:nvPr/>
        </p:nvGrpSpPr>
        <p:grpSpPr>
          <a:xfrm>
            <a:off x="571680" y="2205000"/>
            <a:ext cx="7459200" cy="998640"/>
            <a:chOff x="571680" y="2205000"/>
            <a:chExt cx="7459200" cy="998640"/>
          </a:xfrm>
        </p:grpSpPr>
        <p:grpSp>
          <p:nvGrpSpPr>
            <p:cNvPr id="395" name=""/>
            <p:cNvGrpSpPr/>
            <p:nvPr/>
          </p:nvGrpSpPr>
          <p:grpSpPr>
            <a:xfrm>
              <a:off x="571680" y="2205000"/>
              <a:ext cx="7459200" cy="801000"/>
              <a:chOff x="571680" y="2205000"/>
              <a:chExt cx="7459200" cy="801000"/>
            </a:xfrm>
          </p:grpSpPr>
          <p:sp>
            <p:nvSpPr>
              <p:cNvPr id="396" name="Text Box 9"/>
              <p:cNvSpPr/>
              <p:nvPr/>
            </p:nvSpPr>
            <p:spPr>
              <a:xfrm>
                <a:off x="571680" y="2413080"/>
                <a:ext cx="129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预设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7" name=""/>
              <p:cNvGrpSpPr/>
              <p:nvPr/>
            </p:nvGrpSpPr>
            <p:grpSpPr>
              <a:xfrm>
                <a:off x="1406880" y="2205000"/>
                <a:ext cx="6624000" cy="801000"/>
                <a:chOff x="1406880" y="2205000"/>
                <a:chExt cx="6624000" cy="801000"/>
              </a:xfrm>
            </p:grpSpPr>
            <p:grpSp>
              <p:nvGrpSpPr>
                <p:cNvPr id="398" name=""/>
                <p:cNvGrpSpPr/>
                <p:nvPr/>
              </p:nvGrpSpPr>
              <p:grpSpPr>
                <a:xfrm>
                  <a:off x="1406880" y="2205000"/>
                  <a:ext cx="4904640" cy="801000"/>
                  <a:chOff x="1406880" y="2205000"/>
                  <a:chExt cx="4904640" cy="80100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>
                    <a:off x="3738600" y="2438280"/>
                    <a:ext cx="25729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（   ＋   ）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×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1406880" y="2205000"/>
                    <a:ext cx="2572920" cy="788040"/>
                    <a:chOff x="1406880" y="2205000"/>
                    <a:chExt cx="2572920" cy="788040"/>
                  </a:xfrm>
                </p:grpSpPr>
                <p:grpSp>
                  <p:nvGrpSpPr>
                    <p:cNvPr id="401" name=""/>
                    <p:cNvGrpSpPr/>
                    <p:nvPr/>
                  </p:nvGrpSpPr>
                  <p:grpSpPr>
                    <a:xfrm>
                      <a:off x="1757520" y="2205000"/>
                      <a:ext cx="521280" cy="778680"/>
                      <a:chOff x="1757520" y="2205000"/>
                      <a:chExt cx="521280" cy="778680"/>
                    </a:xfrm>
                  </p:grpSpPr>
                  <p:sp>
                    <p:nvSpPr>
                      <p:cNvPr id="402" name=""/>
                      <p:cNvSpPr/>
                      <p:nvPr/>
                    </p:nvSpPr>
                    <p:spPr>
                      <a:xfrm>
                        <a:off x="1774800" y="2560680"/>
                        <a:ext cx="504000" cy="4230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6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3" name=""/>
                      <p:cNvSpPr/>
                      <p:nvPr/>
                    </p:nvSpPr>
                    <p:spPr>
                      <a:xfrm>
                        <a:off x="1779480" y="2205000"/>
                        <a:ext cx="359640" cy="4230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5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4" name=""/>
                      <p:cNvSpPr/>
                      <p:nvPr/>
                    </p:nvSpPr>
                    <p:spPr>
                      <a:xfrm>
                        <a:off x="1757520" y="2624040"/>
                        <a:ext cx="35964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1406880" y="2425680"/>
                      <a:ext cx="25729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   ＋   ）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×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06" name=""/>
                    <p:cNvGrpSpPr/>
                    <p:nvPr/>
                  </p:nvGrpSpPr>
                  <p:grpSpPr>
                    <a:xfrm>
                      <a:off x="2433600" y="2214360"/>
                      <a:ext cx="521640" cy="778680"/>
                      <a:chOff x="2433600" y="2214360"/>
                      <a:chExt cx="521640" cy="778680"/>
                    </a:xfrm>
                  </p:grpSpPr>
                  <p:sp>
                    <p:nvSpPr>
                      <p:cNvPr id="407" name=""/>
                      <p:cNvSpPr/>
                      <p:nvPr/>
                    </p:nvSpPr>
                    <p:spPr>
                      <a:xfrm>
                        <a:off x="2450880" y="2570040"/>
                        <a:ext cx="504360" cy="4230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4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8" name=""/>
                      <p:cNvSpPr/>
                      <p:nvPr/>
                    </p:nvSpPr>
                    <p:spPr>
                      <a:xfrm>
                        <a:off x="2455560" y="2214360"/>
                        <a:ext cx="360000" cy="4230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1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9" name=""/>
                      <p:cNvSpPr/>
                      <p:nvPr/>
                    </p:nvSpPr>
                    <p:spPr>
                      <a:xfrm>
                        <a:off x="2433600" y="2633400"/>
                        <a:ext cx="36000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10" name=""/>
                  <p:cNvSpPr/>
                  <p:nvPr/>
                </p:nvSpPr>
                <p:spPr>
                  <a:xfrm>
                    <a:off x="3529080" y="2421000"/>
                    <a:ext cx="504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＝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1" name=""/>
                  <p:cNvGrpSpPr/>
                  <p:nvPr/>
                </p:nvGrpSpPr>
                <p:grpSpPr>
                  <a:xfrm>
                    <a:off x="4017960" y="2217600"/>
                    <a:ext cx="534600" cy="778680"/>
                    <a:chOff x="4017960" y="2217600"/>
                    <a:chExt cx="534600" cy="778680"/>
                  </a:xfrm>
                </p:grpSpPr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4039920" y="2573280"/>
                      <a:ext cx="50436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4017960" y="2217600"/>
                      <a:ext cx="53460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4088880" y="2636640"/>
                      <a:ext cx="3600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5" name=""/>
                  <p:cNvGrpSpPr/>
                  <p:nvPr/>
                </p:nvGrpSpPr>
                <p:grpSpPr>
                  <a:xfrm>
                    <a:off x="4699080" y="2227320"/>
                    <a:ext cx="504360" cy="778680"/>
                    <a:chOff x="4699080" y="2227320"/>
                    <a:chExt cx="504360" cy="778680"/>
                  </a:xfrm>
                </p:grpSpPr>
                <p:sp>
                  <p:nvSpPr>
                    <p:cNvPr id="416" name=""/>
                    <p:cNvSpPr/>
                    <p:nvPr/>
                  </p:nvSpPr>
                  <p:spPr>
                    <a:xfrm>
                      <a:off x="4699080" y="2583000"/>
                      <a:ext cx="50436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787640" y="2227320"/>
                      <a:ext cx="36000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5320" y="2646360"/>
                      <a:ext cx="3600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6216480" y="2205000"/>
                  <a:ext cx="534960" cy="778680"/>
                  <a:chOff x="6216480" y="2205000"/>
                  <a:chExt cx="534960" cy="77868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>
                    <a:off x="6238800" y="2560680"/>
                    <a:ext cx="50472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6216480" y="2205000"/>
                    <a:ext cx="5349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6287760" y="262404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3" name=""/>
                <p:cNvSpPr/>
                <p:nvPr/>
              </p:nvSpPr>
              <p:spPr>
                <a:xfrm>
                  <a:off x="5851440" y="2436840"/>
                  <a:ext cx="2179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＝  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×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4" name=""/>
            <p:cNvSpPr/>
            <p:nvPr/>
          </p:nvSpPr>
          <p:spPr>
            <a:xfrm>
              <a:off x="6978960" y="2565360"/>
              <a:ext cx="288720" cy="144360"/>
            </a:xfrm>
            <a:prstGeom prst="line">
              <a:avLst/>
            </a:prstGeom>
            <a:ln w="1908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40680" y="2728800"/>
              <a:ext cx="289080" cy="144360"/>
            </a:xfrm>
            <a:prstGeom prst="line">
              <a:avLst/>
            </a:prstGeom>
            <a:ln w="1908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950160" y="22114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26280" y="2835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550800" y="3573360"/>
            <a:ext cx="7667640" cy="1015920"/>
            <a:chOff x="550800" y="3573360"/>
            <a:chExt cx="7667640" cy="1015920"/>
          </a:xfrm>
        </p:grpSpPr>
        <p:sp>
          <p:nvSpPr>
            <p:cNvPr id="429" name=""/>
            <p:cNvSpPr/>
            <p:nvPr/>
          </p:nvSpPr>
          <p:spPr>
            <a:xfrm>
              <a:off x="3516120" y="378936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50800" y="3573360"/>
              <a:ext cx="7667640" cy="1015920"/>
              <a:chOff x="550800" y="3573360"/>
              <a:chExt cx="7667640" cy="1015920"/>
            </a:xfrm>
          </p:grpSpPr>
          <p:grpSp>
            <p:nvGrpSpPr>
              <p:cNvPr id="431" name=""/>
              <p:cNvGrpSpPr/>
              <p:nvPr/>
            </p:nvGrpSpPr>
            <p:grpSpPr>
              <a:xfrm>
                <a:off x="550800" y="3573360"/>
                <a:ext cx="7667640" cy="792720"/>
                <a:chOff x="550800" y="3573360"/>
                <a:chExt cx="7667640" cy="792720"/>
              </a:xfrm>
            </p:grpSpPr>
            <p:sp>
              <p:nvSpPr>
                <p:cNvPr id="432" name="Text Box 9"/>
                <p:cNvSpPr/>
                <p:nvPr/>
              </p:nvSpPr>
              <p:spPr>
                <a:xfrm>
                  <a:off x="550800" y="3781440"/>
                  <a:ext cx="1295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预设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：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717720" y="3806640"/>
                  <a:ext cx="25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 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×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2 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＋   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×1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4" name=""/>
                <p:cNvGrpSpPr/>
                <p:nvPr/>
              </p:nvGrpSpPr>
              <p:grpSpPr>
                <a:xfrm>
                  <a:off x="1386000" y="3573360"/>
                  <a:ext cx="2573280" cy="788040"/>
                  <a:chOff x="1386000" y="3573360"/>
                  <a:chExt cx="2573280" cy="788040"/>
                </a:xfrm>
              </p:grpSpPr>
              <p:grpSp>
                <p:nvGrpSpPr>
                  <p:cNvPr id="435" name=""/>
                  <p:cNvGrpSpPr/>
                  <p:nvPr/>
                </p:nvGrpSpPr>
                <p:grpSpPr>
                  <a:xfrm>
                    <a:off x="1737000" y="3573360"/>
                    <a:ext cx="521640" cy="778680"/>
                    <a:chOff x="1737000" y="3573360"/>
                    <a:chExt cx="521640" cy="778680"/>
                  </a:xfrm>
                </p:grpSpPr>
                <p:sp>
                  <p:nvSpPr>
                    <p:cNvPr id="436" name=""/>
                    <p:cNvSpPr/>
                    <p:nvPr/>
                  </p:nvSpPr>
                  <p:spPr>
                    <a:xfrm>
                      <a:off x="1754280" y="3929040"/>
                      <a:ext cx="50436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>
                      <a:off x="1758960" y="3573360"/>
                      <a:ext cx="36000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>
                      <a:off x="1737000" y="3992400"/>
                      <a:ext cx="3600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9" name=""/>
                  <p:cNvSpPr/>
                  <p:nvPr/>
                </p:nvSpPr>
                <p:spPr>
                  <a:xfrm>
                    <a:off x="1386000" y="3794040"/>
                    <a:ext cx="25732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（   ＋   ）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×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0" name=""/>
                  <p:cNvGrpSpPr/>
                  <p:nvPr/>
                </p:nvGrpSpPr>
                <p:grpSpPr>
                  <a:xfrm>
                    <a:off x="2413080" y="3582720"/>
                    <a:ext cx="522360" cy="778680"/>
                    <a:chOff x="2413080" y="3582720"/>
                    <a:chExt cx="522360" cy="778680"/>
                  </a:xfrm>
                </p:grpSpPr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2430720" y="3938400"/>
                      <a:ext cx="50472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>
                      <a:off x="2435400" y="3582720"/>
                      <a:ext cx="36036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2413080" y="4001760"/>
                      <a:ext cx="360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44" name=""/>
                <p:cNvSpPr/>
                <p:nvPr/>
              </p:nvSpPr>
              <p:spPr>
                <a:xfrm>
                  <a:off x="6038640" y="3798720"/>
                  <a:ext cx="2179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＋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5" name=""/>
                <p:cNvGrpSpPr/>
                <p:nvPr/>
              </p:nvGrpSpPr>
              <p:grpSpPr>
                <a:xfrm>
                  <a:off x="3897360" y="3582720"/>
                  <a:ext cx="521640" cy="778680"/>
                  <a:chOff x="3897360" y="3582720"/>
                  <a:chExt cx="521640" cy="77868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>
                    <a:off x="3914640" y="3938400"/>
                    <a:ext cx="504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6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3919320" y="3582720"/>
                    <a:ext cx="36000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3897360" y="4001760"/>
                    <a:ext cx="360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5178240" y="3587760"/>
                  <a:ext cx="522360" cy="778320"/>
                  <a:chOff x="5178240" y="3587760"/>
                  <a:chExt cx="522360" cy="77832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>
                    <a:off x="5195880" y="3943080"/>
                    <a:ext cx="50472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5200560" y="3587760"/>
                    <a:ext cx="360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5178240" y="400644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3" name=""/>
              <p:cNvSpPr/>
              <p:nvPr/>
            </p:nvSpPr>
            <p:spPr>
              <a:xfrm>
                <a:off x="4584600" y="3933720"/>
                <a:ext cx="287280" cy="142920"/>
              </a:xfrm>
              <a:prstGeom prst="line">
                <a:avLst/>
              </a:prstGeom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935520" y="4120920"/>
                <a:ext cx="287280" cy="142920"/>
              </a:xfrm>
              <a:prstGeom prst="line">
                <a:avLst/>
              </a:prstGeom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808600" y="3933720"/>
                <a:ext cx="287280" cy="142920"/>
              </a:xfrm>
              <a:prstGeom prst="line">
                <a:avLst/>
              </a:prstGeom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222880" y="4130640"/>
                <a:ext cx="287280" cy="142920"/>
              </a:xfrm>
              <a:prstGeom prst="line">
                <a:avLst/>
              </a:prstGeom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75240" y="357804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925800" y="422100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783040" y="357336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232240" y="422100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练习 提高认识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2" name="Text Box 3"/>
          <p:cNvSpPr/>
          <p:nvPr/>
        </p:nvSpPr>
        <p:spPr>
          <a:xfrm>
            <a:off x="539640" y="18082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用简便方法计算下面各题，并说一说运用了什么运算定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1023840" y="2400480"/>
            <a:ext cx="3457440" cy="778320"/>
            <a:chOff x="1023840" y="2400480"/>
            <a:chExt cx="3457440" cy="778320"/>
          </a:xfrm>
        </p:grpSpPr>
        <p:grpSp>
          <p:nvGrpSpPr>
            <p:cNvPr id="464" name=""/>
            <p:cNvGrpSpPr/>
            <p:nvPr/>
          </p:nvGrpSpPr>
          <p:grpSpPr>
            <a:xfrm>
              <a:off x="1374840" y="2400480"/>
              <a:ext cx="521640" cy="778320"/>
              <a:chOff x="1374840" y="2400480"/>
              <a:chExt cx="521640" cy="778320"/>
            </a:xfrm>
          </p:grpSpPr>
          <p:sp>
            <p:nvSpPr>
              <p:cNvPr id="465" name=""/>
              <p:cNvSpPr/>
              <p:nvPr/>
            </p:nvSpPr>
            <p:spPr>
              <a:xfrm>
                <a:off x="1392120" y="275580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396800" y="2400480"/>
                <a:ext cx="360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4840" y="281916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1023840" y="2620800"/>
              <a:ext cx="34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2036520" y="2400480"/>
              <a:ext cx="522360" cy="778320"/>
              <a:chOff x="2036520" y="2400480"/>
              <a:chExt cx="522360" cy="778320"/>
            </a:xfrm>
          </p:grpSpPr>
          <p:sp>
            <p:nvSpPr>
              <p:cNvPr id="470" name=""/>
              <p:cNvSpPr/>
              <p:nvPr/>
            </p:nvSpPr>
            <p:spPr>
              <a:xfrm>
                <a:off x="2054160" y="27558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058840" y="24004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036520" y="28191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3" name=""/>
          <p:cNvGrpSpPr/>
          <p:nvPr/>
        </p:nvGrpSpPr>
        <p:grpSpPr>
          <a:xfrm>
            <a:off x="3568680" y="2441520"/>
            <a:ext cx="2573280" cy="788040"/>
            <a:chOff x="3568680" y="2441520"/>
            <a:chExt cx="2573280" cy="788040"/>
          </a:xfrm>
        </p:grpSpPr>
        <p:sp>
          <p:nvSpPr>
            <p:cNvPr id="474" name=""/>
            <p:cNvSpPr/>
            <p:nvPr/>
          </p:nvSpPr>
          <p:spPr>
            <a:xfrm>
              <a:off x="3568680" y="2662200"/>
              <a:ext cx="257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   ＋   ）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3919680" y="2441520"/>
              <a:ext cx="521640" cy="778680"/>
              <a:chOff x="3919680" y="2441520"/>
              <a:chExt cx="521640" cy="778680"/>
            </a:xfrm>
          </p:grpSpPr>
          <p:sp>
            <p:nvSpPr>
              <p:cNvPr id="476" name=""/>
              <p:cNvSpPr/>
              <p:nvPr/>
            </p:nvSpPr>
            <p:spPr>
              <a:xfrm>
                <a:off x="3936960" y="279720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941640" y="2441520"/>
                <a:ext cx="360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919680" y="286056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4541760" y="280656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618080" y="245088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595760" y="28702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6442200" y="2419200"/>
            <a:ext cx="2017080" cy="778680"/>
            <a:chOff x="6442200" y="2419200"/>
            <a:chExt cx="2017080" cy="778680"/>
          </a:xfrm>
        </p:grpSpPr>
        <p:sp>
          <p:nvSpPr>
            <p:cNvPr id="483" name=""/>
            <p:cNvSpPr/>
            <p:nvPr/>
          </p:nvSpPr>
          <p:spPr>
            <a:xfrm>
              <a:off x="6442200" y="264456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54560" y="277488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015040" y="2419200"/>
              <a:ext cx="3600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92720" y="283824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865080" y="3090960"/>
            <a:ext cx="3611520" cy="1950120"/>
            <a:chOff x="865080" y="3090960"/>
            <a:chExt cx="3611520" cy="1950120"/>
          </a:xfrm>
        </p:grpSpPr>
        <p:grpSp>
          <p:nvGrpSpPr>
            <p:cNvPr id="488" name=""/>
            <p:cNvGrpSpPr/>
            <p:nvPr/>
          </p:nvGrpSpPr>
          <p:grpSpPr>
            <a:xfrm>
              <a:off x="1341360" y="4262400"/>
              <a:ext cx="522360" cy="778680"/>
              <a:chOff x="1341360" y="4262400"/>
              <a:chExt cx="522360" cy="778680"/>
            </a:xfrm>
          </p:grpSpPr>
          <p:sp>
            <p:nvSpPr>
              <p:cNvPr id="489" name=""/>
              <p:cNvSpPr/>
              <p:nvPr/>
            </p:nvSpPr>
            <p:spPr>
              <a:xfrm>
                <a:off x="1359000" y="461808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363680" y="42624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41360" y="46814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1019160" y="3090960"/>
              <a:ext cx="3457440" cy="1224000"/>
              <a:chOff x="1019160" y="3090960"/>
              <a:chExt cx="3457440" cy="122400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1019160" y="3306960"/>
                <a:ext cx="3457440" cy="778680"/>
                <a:chOff x="1019160" y="3306960"/>
                <a:chExt cx="3457440" cy="778680"/>
              </a:xfrm>
            </p:grpSpPr>
            <p:grpSp>
              <p:nvGrpSpPr>
                <p:cNvPr id="494" name=""/>
                <p:cNvGrpSpPr/>
                <p:nvPr/>
              </p:nvGrpSpPr>
              <p:grpSpPr>
                <a:xfrm>
                  <a:off x="1370160" y="3306960"/>
                  <a:ext cx="521640" cy="778680"/>
                  <a:chOff x="1370160" y="3306960"/>
                  <a:chExt cx="521640" cy="77868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>
                    <a:off x="1387440" y="3662640"/>
                    <a:ext cx="504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1392120" y="3306960"/>
                    <a:ext cx="36000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1370160" y="3726000"/>
                    <a:ext cx="360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8" name=""/>
                <p:cNvSpPr/>
                <p:nvPr/>
              </p:nvSpPr>
              <p:spPr>
                <a:xfrm>
                  <a:off x="1019160" y="3527640"/>
                  <a:ext cx="3457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   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×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×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9" name=""/>
                <p:cNvGrpSpPr/>
                <p:nvPr/>
              </p:nvGrpSpPr>
              <p:grpSpPr>
                <a:xfrm>
                  <a:off x="2031840" y="3306960"/>
                  <a:ext cx="522360" cy="778680"/>
                  <a:chOff x="2031840" y="3306960"/>
                  <a:chExt cx="522360" cy="77868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>
                    <a:off x="2049480" y="3662640"/>
                    <a:ext cx="50472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2054160" y="3306960"/>
                    <a:ext cx="360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2031840" y="372600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3" name=""/>
              <p:cNvSpPr/>
              <p:nvPr/>
            </p:nvSpPr>
            <p:spPr>
              <a:xfrm>
                <a:off x="1450800" y="3854520"/>
                <a:ext cx="217800" cy="14436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647800" y="3657600"/>
                <a:ext cx="217800" cy="14472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450800" y="3486240"/>
                <a:ext cx="217800" cy="14436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109600" y="3864240"/>
                <a:ext cx="217800" cy="14436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565360" y="327024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388880" y="309096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065320" y="394020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379520" y="394668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"/>
            <p:cNvSpPr/>
            <p:nvPr/>
          </p:nvSpPr>
          <p:spPr>
            <a:xfrm>
              <a:off x="865080" y="35416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90640" y="44784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3324240" y="3270240"/>
            <a:ext cx="2955960" cy="1831320"/>
            <a:chOff x="3324240" y="3270240"/>
            <a:chExt cx="2955960" cy="1831320"/>
          </a:xfrm>
        </p:grpSpPr>
        <p:sp>
          <p:nvSpPr>
            <p:cNvPr id="514" name=""/>
            <p:cNvSpPr/>
            <p:nvPr/>
          </p:nvSpPr>
          <p:spPr>
            <a:xfrm>
              <a:off x="3348000" y="4184640"/>
              <a:ext cx="1749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3324240" y="3270240"/>
              <a:ext cx="2955960" cy="1058760"/>
              <a:chOff x="3324240" y="3270240"/>
              <a:chExt cx="2955960" cy="1058760"/>
            </a:xfrm>
          </p:grpSpPr>
          <p:grpSp>
            <p:nvGrpSpPr>
              <p:cNvPr id="516" name=""/>
              <p:cNvGrpSpPr/>
              <p:nvPr/>
            </p:nvGrpSpPr>
            <p:grpSpPr>
              <a:xfrm>
                <a:off x="3324240" y="3292560"/>
                <a:ext cx="2955960" cy="778680"/>
                <a:chOff x="3324240" y="3292560"/>
                <a:chExt cx="2955960" cy="778680"/>
              </a:xfrm>
            </p:grpSpPr>
            <p:grpSp>
              <p:nvGrpSpPr>
                <p:cNvPr id="517" name=""/>
                <p:cNvGrpSpPr/>
                <p:nvPr/>
              </p:nvGrpSpPr>
              <p:grpSpPr>
                <a:xfrm>
                  <a:off x="3706920" y="3292560"/>
                  <a:ext cx="2573280" cy="778680"/>
                  <a:chOff x="3706920" y="3292560"/>
                  <a:chExt cx="2573280" cy="778680"/>
                </a:xfrm>
              </p:grpSpPr>
              <p:grpSp>
                <p:nvGrpSpPr>
                  <p:cNvPr id="518" name=""/>
                  <p:cNvGrpSpPr/>
                  <p:nvPr/>
                </p:nvGrpSpPr>
                <p:grpSpPr>
                  <a:xfrm>
                    <a:off x="3706920" y="3292560"/>
                    <a:ext cx="2573280" cy="778680"/>
                    <a:chOff x="3706920" y="3292560"/>
                    <a:chExt cx="2573280" cy="778680"/>
                  </a:xfrm>
                </p:grpSpPr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3706920" y="3513240"/>
                      <a:ext cx="25732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×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20" name=""/>
                    <p:cNvGrpSpPr/>
                    <p:nvPr/>
                  </p:nvGrpSpPr>
                  <p:grpSpPr>
                    <a:xfrm>
                      <a:off x="3780000" y="3292560"/>
                      <a:ext cx="522360" cy="778680"/>
                      <a:chOff x="3780000" y="3292560"/>
                      <a:chExt cx="522360" cy="778680"/>
                    </a:xfrm>
                  </p:grpSpPr>
                  <p:sp>
                    <p:nvSpPr>
                      <p:cNvPr id="521" name=""/>
                      <p:cNvSpPr/>
                      <p:nvPr/>
                    </p:nvSpPr>
                    <p:spPr>
                      <a:xfrm>
                        <a:off x="3797640" y="3648240"/>
                        <a:ext cx="504720" cy="4230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9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2" name=""/>
                      <p:cNvSpPr/>
                      <p:nvPr/>
                    </p:nvSpPr>
                    <p:spPr>
                      <a:xfrm>
                        <a:off x="3802320" y="3292560"/>
                        <a:ext cx="360360" cy="4230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8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3" name=""/>
                      <p:cNvSpPr/>
                      <p:nvPr/>
                    </p:nvSpPr>
                    <p:spPr>
                      <a:xfrm>
                        <a:off x="3780000" y="3711600"/>
                        <a:ext cx="36036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24" name=""/>
                  <p:cNvGrpSpPr/>
                  <p:nvPr/>
                </p:nvGrpSpPr>
                <p:grpSpPr>
                  <a:xfrm>
                    <a:off x="4961160" y="3292560"/>
                    <a:ext cx="504720" cy="778680"/>
                    <a:chOff x="4961160" y="3292560"/>
                    <a:chExt cx="504720" cy="778680"/>
                  </a:xfrm>
                </p:grpSpPr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4961160" y="3648240"/>
                      <a:ext cx="50472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037480" y="3292560"/>
                      <a:ext cx="36036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015160" y="3711600"/>
                      <a:ext cx="360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28" name=""/>
                  <p:cNvSpPr/>
                  <p:nvPr/>
                </p:nvSpPr>
                <p:spPr>
                  <a:xfrm>
                    <a:off x="5377680" y="3517920"/>
                    <a:ext cx="568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×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27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9" name=""/>
                <p:cNvSpPr/>
                <p:nvPr/>
              </p:nvSpPr>
              <p:spPr>
                <a:xfrm>
                  <a:off x="3324240" y="3517920"/>
                  <a:ext cx="503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0" name=""/>
              <p:cNvSpPr/>
              <p:nvPr/>
            </p:nvSpPr>
            <p:spPr>
              <a:xfrm>
                <a:off x="3851280" y="3773520"/>
                <a:ext cx="216000" cy="21600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465800" y="3610080"/>
                <a:ext cx="215640" cy="21564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076720" y="3782880"/>
                <a:ext cx="216000" cy="21600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670720" y="3619440"/>
                <a:ext cx="215640" cy="21600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427640" y="3270240"/>
                <a:ext cx="358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789360" y="39607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019840" y="3936960"/>
                <a:ext cx="358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608800" y="3274920"/>
                <a:ext cx="358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8" name=""/>
          <p:cNvGrpSpPr/>
          <p:nvPr/>
        </p:nvGrpSpPr>
        <p:grpSpPr>
          <a:xfrm>
            <a:off x="6227640" y="3178080"/>
            <a:ext cx="2519280" cy="2107440"/>
            <a:chOff x="6227640" y="3178080"/>
            <a:chExt cx="2519280" cy="2107440"/>
          </a:xfrm>
        </p:grpSpPr>
        <p:grpSp>
          <p:nvGrpSpPr>
            <p:cNvPr id="539" name=""/>
            <p:cNvGrpSpPr/>
            <p:nvPr/>
          </p:nvGrpSpPr>
          <p:grpSpPr>
            <a:xfrm>
              <a:off x="6561000" y="3178080"/>
              <a:ext cx="2185920" cy="795960"/>
              <a:chOff x="6561000" y="3178080"/>
              <a:chExt cx="2185920" cy="795960"/>
            </a:xfrm>
          </p:grpSpPr>
          <p:sp>
            <p:nvSpPr>
              <p:cNvPr id="540" name=""/>
              <p:cNvSpPr/>
              <p:nvPr/>
            </p:nvSpPr>
            <p:spPr>
              <a:xfrm>
                <a:off x="6561000" y="3422520"/>
                <a:ext cx="216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×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＋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6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1" name=""/>
              <p:cNvGrpSpPr/>
              <p:nvPr/>
            </p:nvGrpSpPr>
            <p:grpSpPr>
              <a:xfrm>
                <a:off x="7046640" y="3195720"/>
                <a:ext cx="504720" cy="778320"/>
                <a:chOff x="7046640" y="3195720"/>
                <a:chExt cx="504720" cy="77832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7046640" y="355104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86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7107120" y="319572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7084800" y="361440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8242200" y="3178080"/>
                <a:ext cx="504720" cy="778680"/>
                <a:chOff x="8242200" y="3178080"/>
                <a:chExt cx="504720" cy="77868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8242200" y="353376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86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8302680" y="317808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8280360" y="359712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9" name=""/>
            <p:cNvSpPr/>
            <p:nvPr/>
          </p:nvSpPr>
          <p:spPr>
            <a:xfrm>
              <a:off x="6227640" y="4060800"/>
              <a:ext cx="11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6586560" y="3860640"/>
              <a:ext cx="504720" cy="778680"/>
              <a:chOff x="6586560" y="3860640"/>
              <a:chExt cx="504720" cy="778680"/>
            </a:xfrm>
          </p:grpSpPr>
          <p:sp>
            <p:nvSpPr>
              <p:cNvPr id="551" name=""/>
              <p:cNvSpPr/>
              <p:nvPr/>
            </p:nvSpPr>
            <p:spPr>
              <a:xfrm>
                <a:off x="6586560" y="42163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647040" y="38606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624720" y="42796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922800" y="40701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6227640" y="4506840"/>
              <a:ext cx="1014480" cy="778680"/>
              <a:chOff x="6227640" y="4506840"/>
              <a:chExt cx="1014480" cy="778680"/>
            </a:xfrm>
          </p:grpSpPr>
          <p:sp>
            <p:nvSpPr>
              <p:cNvPr id="556" name=""/>
              <p:cNvSpPr/>
              <p:nvPr/>
            </p:nvSpPr>
            <p:spPr>
              <a:xfrm>
                <a:off x="6227640" y="4738680"/>
                <a:ext cx="100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7" name=""/>
              <p:cNvGrpSpPr/>
              <p:nvPr/>
            </p:nvGrpSpPr>
            <p:grpSpPr>
              <a:xfrm>
                <a:off x="6737400" y="4506840"/>
                <a:ext cx="504720" cy="778680"/>
                <a:chOff x="6737400" y="4506840"/>
                <a:chExt cx="504720" cy="77868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6737400" y="486252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86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6797880" y="450684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6775560" y="492588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1" name=""/>
            <p:cNvSpPr/>
            <p:nvPr/>
          </p:nvSpPr>
          <p:spPr>
            <a:xfrm>
              <a:off x="6237000" y="34416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练习 提高认识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539640" y="1811160"/>
            <a:ext cx="82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奶牛场每头奶牛平均日产牛奶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4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头奶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天可产奶多少吨？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4302000" y="1595520"/>
            <a:ext cx="504720" cy="778680"/>
            <a:chOff x="4302000" y="1595520"/>
            <a:chExt cx="504720" cy="778680"/>
          </a:xfrm>
        </p:grpSpPr>
        <p:sp>
          <p:nvSpPr>
            <p:cNvPr id="565" name=""/>
            <p:cNvSpPr/>
            <p:nvPr/>
          </p:nvSpPr>
          <p:spPr>
            <a:xfrm>
              <a:off x="4302000" y="195120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62480" y="159552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340160" y="201456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2795760" y="2637000"/>
            <a:ext cx="3457440" cy="778320"/>
            <a:chOff x="2795760" y="2637000"/>
            <a:chExt cx="3457440" cy="778320"/>
          </a:xfrm>
        </p:grpSpPr>
        <p:sp>
          <p:nvSpPr>
            <p:cNvPr id="569" name=""/>
            <p:cNvSpPr/>
            <p:nvPr/>
          </p:nvSpPr>
          <p:spPr>
            <a:xfrm>
              <a:off x="2795760" y="2857320"/>
              <a:ext cx="34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3059280" y="2637000"/>
              <a:ext cx="504720" cy="778320"/>
              <a:chOff x="3059280" y="2637000"/>
              <a:chExt cx="504720" cy="778320"/>
            </a:xfrm>
          </p:grpSpPr>
          <p:sp>
            <p:nvSpPr>
              <p:cNvPr id="571" name=""/>
              <p:cNvSpPr/>
              <p:nvPr/>
            </p:nvSpPr>
            <p:spPr>
              <a:xfrm>
                <a:off x="3059280" y="29923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119760" y="26370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097440" y="30556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4" name=""/>
          <p:cNvGrpSpPr/>
          <p:nvPr/>
        </p:nvGrpSpPr>
        <p:grpSpPr>
          <a:xfrm>
            <a:off x="2676600" y="3471840"/>
            <a:ext cx="3584520" cy="1458720"/>
            <a:chOff x="2676600" y="3471840"/>
            <a:chExt cx="3584520" cy="1458720"/>
          </a:xfrm>
        </p:grpSpPr>
        <p:grpSp>
          <p:nvGrpSpPr>
            <p:cNvPr id="575" name=""/>
            <p:cNvGrpSpPr/>
            <p:nvPr/>
          </p:nvGrpSpPr>
          <p:grpSpPr>
            <a:xfrm>
              <a:off x="2676600" y="3471840"/>
              <a:ext cx="3584520" cy="1458720"/>
              <a:chOff x="2676600" y="3471840"/>
              <a:chExt cx="3584520" cy="1458720"/>
            </a:xfrm>
          </p:grpSpPr>
          <p:grpSp>
            <p:nvGrpSpPr>
              <p:cNvPr id="576" name=""/>
              <p:cNvGrpSpPr/>
              <p:nvPr/>
            </p:nvGrpSpPr>
            <p:grpSpPr>
              <a:xfrm>
                <a:off x="2676600" y="3471840"/>
                <a:ext cx="3584520" cy="1458720"/>
                <a:chOff x="2676600" y="3471840"/>
                <a:chExt cx="3584520" cy="1458720"/>
              </a:xfrm>
            </p:grpSpPr>
            <p:grpSp>
              <p:nvGrpSpPr>
                <p:cNvPr id="577" name=""/>
                <p:cNvGrpSpPr/>
                <p:nvPr/>
              </p:nvGrpSpPr>
              <p:grpSpPr>
                <a:xfrm>
                  <a:off x="2803680" y="3486240"/>
                  <a:ext cx="3457440" cy="778320"/>
                  <a:chOff x="2803680" y="3486240"/>
                  <a:chExt cx="3457440" cy="778320"/>
                </a:xfrm>
              </p:grpSpPr>
              <p:sp>
                <p:nvSpPr>
                  <p:cNvPr id="578" name=""/>
                  <p:cNvSpPr/>
                  <p:nvPr/>
                </p:nvSpPr>
                <p:spPr>
                  <a:xfrm>
                    <a:off x="2803680" y="3706560"/>
                    <a:ext cx="3457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   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×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42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×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9" name=""/>
                  <p:cNvGrpSpPr/>
                  <p:nvPr/>
                </p:nvGrpSpPr>
                <p:grpSpPr>
                  <a:xfrm>
                    <a:off x="3067200" y="3486240"/>
                    <a:ext cx="504720" cy="778320"/>
                    <a:chOff x="3067200" y="3486240"/>
                    <a:chExt cx="504720" cy="778320"/>
                  </a:xfrm>
                </p:grpSpPr>
                <p:sp>
                  <p:nvSpPr>
                    <p:cNvPr id="580" name=""/>
                    <p:cNvSpPr/>
                    <p:nvPr/>
                  </p:nvSpPr>
                  <p:spPr>
                    <a:xfrm>
                      <a:off x="3067200" y="3841560"/>
                      <a:ext cx="50472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"/>
                    <p:cNvSpPr/>
                    <p:nvPr/>
                  </p:nvSpPr>
                  <p:spPr>
                    <a:xfrm>
                      <a:off x="3127680" y="3486240"/>
                      <a:ext cx="36036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>
                      <a:off x="3105360" y="3904920"/>
                      <a:ext cx="360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83" name=""/>
                <p:cNvSpPr/>
                <p:nvPr/>
              </p:nvSpPr>
              <p:spPr>
                <a:xfrm>
                  <a:off x="3103560" y="4057560"/>
                  <a:ext cx="358920" cy="7164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4408560" y="347184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122640" y="413856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2676600" y="4562280"/>
                  <a:ext cx="1584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84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t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）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7" name=""/>
              <p:cNvSpPr/>
              <p:nvPr/>
            </p:nvSpPr>
            <p:spPr>
              <a:xfrm>
                <a:off x="4308480" y="3860640"/>
                <a:ext cx="503280" cy="7164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2714760" y="3693960"/>
              <a:ext cx="8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7072560" y="35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88560" y="3716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7T03:32:3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